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382-39A7-4CF4-A25F-A15B841E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D80-51D4-4B25-A090-1B11A059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0BF-40A6-4B3B-84E3-507B2EB1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602-0505-4B15-A302-7B4BDCCE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0968-F877-4166-8F0D-BFDC0D94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7369-117B-45FD-A73C-FB0D80B8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B965-974B-4C24-9E0E-E49A719E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192A-0377-48F8-87D4-AEFE122C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CEDA-0C9D-4D1B-B578-B950882C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64F5-333B-4340-9C96-01DFB8A2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389D-F38B-4D02-9622-F751A6B7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6A4-4029-4861-8E21-FA030258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731F-427D-4083-AC15-6ED387B6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F97E-0806-4DE4-8F5B-31C7D45E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03A9-7EFB-4D34-9655-72C817A0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E0AF-6284-4CCF-813A-36B379C3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F7B-60C0-4CB3-BBFB-1465DEF8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C1E-19EA-4AC4-AAC7-091CBAB6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A54-E537-435D-BBF5-3B62BF41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16A-2B9E-42E1-91A4-5CB1A8A5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64E-C642-4503-AA41-31005EA7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D13-F473-4E1D-9CC1-D7C4C03B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199-7CF4-4CBA-993B-DA63C78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F2E-08CF-4652-9D0A-1F8169A2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AF46-6955-4927-9EAE-BC6DCD717253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828E-4EF8-4061-ACFF-5560992C1B92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R&#259;spuns%20corect.wav" TargetMode="External"/><Relationship Id="rId2" Type="http://schemas.openxmlformats.org/officeDocument/2006/relationships/hyperlink" Target="file:///R&#259;spuns%20gre&#351;it.wav" TargetMode="External"/><Relationship Id="rId3" Type="http://schemas.openxmlformats.org/officeDocument/2006/relationships/hyperlink" Target="file:///R&#259;spuns%20gre&#351;it.wav" TargetMode="External"/><Relationship Id="rId4" Type="http://schemas.openxmlformats.org/officeDocument/2006/relationships/hyperlink" Target="file:///R&#259;spuns%20gre&#351;it.wav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71640" y="5373720"/>
            <a:ext cx="72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cc00"/>
                </a:solidFill>
                <a:latin typeface="Arial"/>
              </a:rPr>
              <a:t>Alcătuit de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elev Rus Bianca-cls. a VII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85988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0"/>
            <a:ext cx="7931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lasificarea elementelor după poziţia în Sistemul Period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etale ( elementele situate în stânga liniei îngroşate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emetale ( elementele situate în stânga liniei îngroşat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Exerciţiu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aceţi click pe răspunsul corect pentru următoarele elem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diu:               a) </a:t>
            </a:r>
            <a:r>
              <a:rPr b="0" lang="en-US" sz="20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meta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b) </a:t>
            </a:r>
            <a:r>
              <a:rPr b="0" lang="en-US" sz="20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lf   :               a) </a:t>
            </a:r>
            <a:r>
              <a:rPr b="0" lang="en-US" sz="2000" spc="-1" strike="noStrike" u="sng">
                <a:solidFill>
                  <a:srgbClr val="cccc00"/>
                </a:solidFill>
                <a:uFillTx/>
                <a:latin typeface="Arial"/>
                <a:hlinkClick r:id="rId3"/>
              </a:rPr>
              <a:t>meta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b) 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n:             a) </a:t>
            </a:r>
            <a:r>
              <a:rPr b="0" lang="en-US" sz="2000" spc="-1" strike="noStrike" u="sng">
                <a:solidFill>
                  <a:srgbClr val="cccc00"/>
                </a:solidFill>
                <a:uFillTx/>
                <a:latin typeface="Arial"/>
                <a:hlinkClick r:id="rId4"/>
              </a:rPr>
              <a:t>meta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b) 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iu:               a) metal          b) 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asiu:            a) metal          b) 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for:              a) metal          b) 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89000"/>
            <a:ext cx="76932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TERMENI CHEI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"/>
              </a:rPr>
              <a:t>Legea periodicităţi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"/>
              </a:rPr>
              <a:t>Perio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"/>
              </a:rPr>
              <a:t>Grup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"/>
              </a:rPr>
              <a:t>Clasificarea elementelor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"/>
              </a:rPr>
              <a:t>Metale şi nemetale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ŞTIAŢI CĂ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 perioada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 care Mendeleev a enun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t legea periodici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i se cuno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eau numai 63 de elemente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ionierii chimiei rom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i, profesorii Petru Poni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 dr. Istrati, se foloseau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 predare de sistemul periodic al lui Mendeleev?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3300"/>
                </a:solidFill>
                <a:latin typeface="Arial Black"/>
              </a:rPr>
              <a:t>SE CUNOAŞTE CĂ</a:t>
            </a:r>
            <a:r>
              <a:rPr b="1" i="1" lang="en-US" sz="2800" spc="-1" strike="noStrike">
                <a:solidFill>
                  <a:srgbClr val="ff3300"/>
                </a:solidFill>
                <a:latin typeface="Arial Black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tr-un punct minuscul f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ut cu creionul sunt 30000000000000000 atom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ele 7 metale cunoscut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 antichitate sunt: aur, argint, cupru, plumb, mercur, fier si stani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iametrele aproximative ale atomilor sunt cuprins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tre 0, 0000001 mm (hidrogen)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 0,0000005 mm (cesiu)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786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Să ne reaminti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re este structura atomulu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m este structura învelişului electron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in ce se diferenţiază electronii într-un at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e nume mai poartă straturile energet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m se notează straturile electron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re este numărul maxim de electroni cu care se poate ocupa un str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9930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 Black"/>
              </a:rPr>
              <a:t>LEGEA PERIODICITĂŢI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00"/>
                </a:solidFill>
                <a:latin typeface="Arial"/>
              </a:rPr>
              <a:t>a fost formulată pentru prima dată de către Mendeleev, pornind de la observaţia că proprietăţile fizice şi chimice ale elementelor se repet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Care este diferenţa dintre proprietăţile fizice şi proprietăţile chim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00"/>
                </a:solidFill>
                <a:latin typeface="Arial"/>
              </a:rPr>
              <a:t>Ea are următorul enunţ: “ Proprietăţile fizice şi chimice ale elementelor se repetă în mod periodic în funcţie de numărul atomic Z 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7628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78483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 Black"/>
              </a:rPr>
              <a:t>Evoluţia Sistemului Period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 Black"/>
              </a:rPr>
              <a:t>TABELUL LUI MENDELE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c00"/>
                </a:solidFill>
                <a:latin typeface="Arial"/>
              </a:rPr>
              <a:t>Mendeleev a alcătuit şirul elementelor în ordinea creşterii maselor atomi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c00"/>
                </a:solidFill>
                <a:latin typeface="Arial"/>
              </a:rPr>
              <a:t>Elementele cu proprietăţi asemănătoare erau aşezate unul sub altu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c00"/>
                </a:solidFill>
                <a:latin typeface="Arial"/>
              </a:rPr>
              <a:t>Tabelul conţinea numai elementele cunoscute la acea vreme iar locurile elementelor nedescoperite au fost lăsate go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Black"/>
              </a:rPr>
              <a:t>Evoluţia Sistemului Period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FORMA ACTUALĂ A SISTEMULUI PERIOD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nţine şiruri orizontale     ( perioade ) şi şiruri verti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 grupe ) de elemente chim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3357720"/>
            <a:ext cx="734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907920"/>
            <a:ext cx="7924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80661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Perioade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nt notate cu cifre arab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61840" y="2708280"/>
          <a:ext cx="7958160" cy="2736720"/>
        </p:xfrm>
        <a:graphic>
          <a:graphicData uri="http://schemas.openxmlformats.org/drawingml/2006/table">
            <a:tbl>
              <a:tblPr/>
              <a:tblGrid>
                <a:gridCol w="1873440"/>
                <a:gridCol w="3024000"/>
                <a:gridCol w="3060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a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elementelor descoperi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maxim de eleme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 şi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 şi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932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Grupe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cuprind elementele cu proprietăţi asemănătoare. Sunt 18 grupe ( 8 principale şi 10 secundare ) notate cu cifre ara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3284640"/>
          <a:ext cx="7488360" cy="3200400"/>
        </p:xfrm>
        <a:graphic>
          <a:graphicData uri="http://schemas.openxmlformats.org/drawingml/2006/table">
            <a:tbl>
              <a:tblPr/>
              <a:tblGrid>
                <a:gridCol w="1150920"/>
                <a:gridCol w="2089080"/>
                <a:gridCol w="4248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grup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grupă după notaţia ve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UMIREA GRUP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 – 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I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II – II –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II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V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I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II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III -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Metalelor alcal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Metalelor alcalino – pământoa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upe Secund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Elementelor pământoa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Carbon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Azo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Oxigen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Halogen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Gazelor r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4:54:31Z</dcterms:created>
  <dc:creator>Florin Viu</dc:creator>
  <dc:description/>
  <dc:language>en-US</dc:language>
  <cp:lastModifiedBy>cursant</cp:lastModifiedBy>
  <dcterms:modified xsi:type="dcterms:W3CDTF">2010-09-02T08:06:31Z</dcterms:modified>
  <cp:revision>27</cp:revision>
  <dc:subject/>
  <dc:title>SISTEMUL PERIODIC AL ELEMENTELOR</dc:title>
</cp:coreProperties>
</file>